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D71-3352-4035-B837-F09FC922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60C-80F7-42DB-8526-E261B88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54B-3FBA-4483-BBDA-E9C083C1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013-B2AD-43A0-806E-0EEC0357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4EB-3271-4921-A9D8-1E5471EA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DD2-E2E9-4C7E-999C-FBB5FD0C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1D6-B386-4ACB-AF16-93D1FD69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E0E-6398-433E-A49F-2F500584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D1E3-D3BC-4B4A-BB8A-16F19A18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CCA4-BC7B-4D27-9DF5-71655964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51C1-8D41-40FE-9491-3F7C167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59A-DE1C-4434-AAE7-2D9A5F5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D79-24F8-46FC-8BEA-C331604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0F68-4A90-4728-93C5-DB74EB8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F87-6C42-4ECF-A3FD-C9343CF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274-F724-4D89-BE7C-BD21F6B7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12CE-3E38-42E0-A8D5-8CC47BF1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0F1-12F7-46DB-BF37-EC5EF95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2BA-71D2-4B0A-ADCB-1D1F2DD0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71E-7396-40A0-A90A-0063CD5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50F-0C1B-4CD0-8714-85A1CBE9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7A1-74B8-44CD-ACBA-FF93BCC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B9F-060C-4D41-A398-A938A334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0CA-918C-4673-B385-D50CF92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ABF-0E1B-4100-9FB7-37C2C356B17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BAF8-3159-409F-A836-7C6A29065FE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Ruben Garc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1" descr=""/>
          <p:cNvPicPr/>
          <p:nvPr/>
        </p:nvPicPr>
        <p:blipFill>
          <a:blip r:embed="rId1"/>
          <a:stretch/>
        </p:blipFill>
        <p:spPr>
          <a:xfrm>
            <a:off x="3449520" y="92160"/>
            <a:ext cx="2567160" cy="1139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74320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http://t1.gstatic.com/images?q=tbn:ANd9GcSR1can7oqzCYghd0eQWZgJSlfHqpdwD9IcyKbSSuLdvzFasTU"/>
          <p:cNvPicPr/>
          <p:nvPr/>
        </p:nvPicPr>
        <p:blipFill>
          <a:blip r:embed="rId2"/>
          <a:stretch/>
        </p:blipFill>
        <p:spPr>
          <a:xfrm>
            <a:off x="1066680" y="2133720"/>
            <a:ext cx="6670800" cy="434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1" descr=""/>
          <p:cNvPicPr/>
          <p:nvPr/>
        </p:nvPicPr>
        <p:blipFill>
          <a:blip r:embed="rId1"/>
          <a:stretch/>
        </p:blipFill>
        <p:spPr>
          <a:xfrm>
            <a:off x="2700360" y="165240"/>
            <a:ext cx="4621320" cy="1145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1371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jdskfjds.jpg"/>
          <p:cNvPicPr/>
          <p:nvPr/>
        </p:nvPicPr>
        <p:blipFill>
          <a:blip r:embed="rId2"/>
          <a:stretch/>
        </p:blipFill>
        <p:spPr>
          <a:xfrm>
            <a:off x="4572000" y="1752480"/>
            <a:ext cx="4114800" cy="478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1" descr=""/>
          <p:cNvPicPr/>
          <p:nvPr/>
        </p:nvPicPr>
        <p:blipFill>
          <a:blip r:embed="rId1"/>
          <a:stretch/>
        </p:blipFill>
        <p:spPr>
          <a:xfrm>
            <a:off x="2614680" y="92160"/>
            <a:ext cx="4176720" cy="1139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1676520" y="1066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http://t3.gstatic.com/images?q=tbn:ANd9GcTL0Bwvv86KXALrRdTCKL27b6CFKBfBlPyiiYC5jkPVbExAIsrE"/>
          <p:cNvPicPr/>
          <p:nvPr/>
        </p:nvPicPr>
        <p:blipFill>
          <a:blip r:embed="rId2"/>
          <a:stretch/>
        </p:blipFill>
        <p:spPr>
          <a:xfrm>
            <a:off x="1905120" y="2362320"/>
            <a:ext cx="539100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1573200" y="317520"/>
            <a:ext cx="726588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286000" y="1600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http://t3.gstatic.com/images?q=tbn:ANd9GcSyB9tTsn5OTZ5_kSDrcOShDZilqsTVE73O40WlxdJyjXI8QVqc"/>
          <p:cNvPicPr/>
          <p:nvPr/>
        </p:nvPicPr>
        <p:blipFill>
          <a:blip r:embed="rId2"/>
          <a:stretch/>
        </p:blipFill>
        <p:spPr>
          <a:xfrm>
            <a:off x="1905120" y="2438280"/>
            <a:ext cx="5825880" cy="396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1" descr=""/>
          <p:cNvPicPr/>
          <p:nvPr/>
        </p:nvPicPr>
        <p:blipFill>
          <a:blip r:embed="rId1"/>
          <a:stretch/>
        </p:blipFill>
        <p:spPr>
          <a:xfrm>
            <a:off x="2541600" y="92160"/>
            <a:ext cx="4091040" cy="1139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2209680" y="1295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jpgggg.jpg"/>
          <p:cNvPicPr/>
          <p:nvPr/>
        </p:nvPicPr>
        <p:blipFill>
          <a:blip r:embed="rId2"/>
          <a:stretch/>
        </p:blipFill>
        <p:spPr>
          <a:xfrm>
            <a:off x="2666880" y="2438280"/>
            <a:ext cx="3611520" cy="419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1" descr=""/>
          <p:cNvPicPr/>
          <p:nvPr/>
        </p:nvPicPr>
        <p:blipFill>
          <a:blip r:embed="rId1"/>
          <a:stretch/>
        </p:blipFill>
        <p:spPr>
          <a:xfrm>
            <a:off x="3067200" y="317520"/>
            <a:ext cx="3187440" cy="1146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75248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ship greek.jpg"/>
          <p:cNvPicPr/>
          <p:nvPr/>
        </p:nvPicPr>
        <p:blipFill>
          <a:blip r:embed="rId2"/>
          <a:stretch/>
        </p:blipFill>
        <p:spPr>
          <a:xfrm>
            <a:off x="1905120" y="2133720"/>
            <a:ext cx="6186240" cy="396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http://www.greece-athens.com/gallery_images/56.jpg"/>
          <p:cNvPicPr/>
          <p:nvPr/>
        </p:nvPicPr>
        <p:blipFill>
          <a:blip r:embed="rId2"/>
          <a:srcRect l="0" t="0" r="0" b="23196"/>
          <a:stretch/>
        </p:blipFill>
        <p:spPr>
          <a:xfrm>
            <a:off x="0" y="218916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374976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place where Greeks meet and conduct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6" descr="http://t3.gstatic.com/images?q=tbn:ANd9GcSFGyzwts7g4M4s28Mtm6Ekd6dVjJfHCAwib6FrljcsjwqPomBc"/>
          <p:cNvPicPr/>
          <p:nvPr/>
        </p:nvPicPr>
        <p:blipFill>
          <a:blip r:embed="rId2"/>
          <a:stretch/>
        </p:blipFill>
        <p:spPr>
          <a:xfrm>
            <a:off x="2057400" y="167652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481120" y="165240"/>
            <a:ext cx="4138920" cy="1145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838080" y="1295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http://t1.gstatic.com/images?q=tbn:ANd9GcRAql_D7GSSFXfVjtoPeMQVNg7f76VFzdzSSAqOtuOsOoE_4weo4g"/>
          <p:cNvPicPr/>
          <p:nvPr/>
        </p:nvPicPr>
        <p:blipFill>
          <a:blip r:embed="rId2"/>
          <a:stretch/>
        </p:blipFill>
        <p:spPr>
          <a:xfrm>
            <a:off x="1981080" y="2286000"/>
            <a:ext cx="5446800" cy="419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2987640" y="12600"/>
            <a:ext cx="31878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819520" y="11430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http://t2.gstatic.com/images?q=tbn:ANd9GcTU3U0qUf_uSzuRLH-H7yqYX004L82rHP9_1J0o12IjIHnbza-7"/>
          <p:cNvPicPr/>
          <p:nvPr/>
        </p:nvPicPr>
        <p:blipFill>
          <a:blip r:embed="rId2"/>
          <a:stretch/>
        </p:blipFill>
        <p:spPr>
          <a:xfrm>
            <a:off x="1066680" y="2819520"/>
            <a:ext cx="690264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1" descr=""/>
          <p:cNvPicPr/>
          <p:nvPr/>
        </p:nvPicPr>
        <p:blipFill>
          <a:blip r:embed="rId1"/>
          <a:stretch/>
        </p:blipFill>
        <p:spPr>
          <a:xfrm>
            <a:off x="2998800" y="12600"/>
            <a:ext cx="32497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05740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http://t0.gstatic.com/images?q=tbn:ANd9GcTEdPYvfDKhP9Mdjtix3WWW1bwEG65gVqQxkDL9st2Xthm-apWz"/>
          <p:cNvPicPr/>
          <p:nvPr/>
        </p:nvPicPr>
        <p:blipFill>
          <a:blip r:embed="rId2"/>
          <a:stretch/>
        </p:blipFill>
        <p:spPr>
          <a:xfrm>
            <a:off x="1981080" y="3200400"/>
            <a:ext cx="516744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1" descr=""/>
          <p:cNvPicPr/>
          <p:nvPr/>
        </p:nvPicPr>
        <p:blipFill>
          <a:blip r:embed="rId1"/>
          <a:stretch/>
        </p:blipFill>
        <p:spPr>
          <a:xfrm>
            <a:off x="2236680" y="165240"/>
            <a:ext cx="4633920" cy="1145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80880" y="12193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om of government where people vote to make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http://t2.gstatic.com/images?q=tbn:ANd9GcT_OVEJUbNvFVUyt_3RMR_b_TToopVSYc3l5Pf4nYB6yyOAGlUf"/>
          <p:cNvPicPr/>
          <p:nvPr/>
        </p:nvPicPr>
        <p:blipFill>
          <a:blip r:embed="rId2"/>
          <a:stretch/>
        </p:blipFill>
        <p:spPr>
          <a:xfrm>
            <a:off x="3124080" y="1905120"/>
            <a:ext cx="549612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" descr=""/>
          <p:cNvPicPr/>
          <p:nvPr/>
        </p:nvPicPr>
        <p:blipFill>
          <a:blip r:embed="rId1"/>
          <a:stretch/>
        </p:blipFill>
        <p:spPr>
          <a:xfrm>
            <a:off x="3602160" y="317520"/>
            <a:ext cx="237168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295280" y="1447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ear evidence and make decisions in a court of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3360" y="-547560"/>
            <a:ext cx="118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http://t0.gstatic.com/images?q=tbn:ANd9GcTX5SR_BN9hqE7sPbza3XYY76-3Q4ZFA_NvruRo_tZfiI4epNzf"/>
          <p:cNvPicPr/>
          <p:nvPr/>
        </p:nvPicPr>
        <p:blipFill>
          <a:blip r:embed="rId2"/>
          <a:stretch/>
        </p:blipFill>
        <p:spPr>
          <a:xfrm>
            <a:off x="914400" y="2548080"/>
            <a:ext cx="6477120" cy="4309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1" descr=""/>
          <p:cNvPicPr/>
          <p:nvPr/>
        </p:nvPicPr>
        <p:blipFill>
          <a:blip r:embed="rId1"/>
          <a:stretch/>
        </p:blipFill>
        <p:spPr>
          <a:xfrm>
            <a:off x="2462040" y="92160"/>
            <a:ext cx="41767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9810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eaded by on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http://t2.gstatic.com/images?q=tbn:ANd9GcQgTIby05agkbKD3qXd7oRu-o0TiZIyGgUtoazgn9pu9eI2pPhH7w"/>
          <p:cNvPicPr/>
          <p:nvPr/>
        </p:nvPicPr>
        <p:blipFill>
          <a:blip r:embed="rId2"/>
          <a:stretch/>
        </p:blipFill>
        <p:spPr>
          <a:xfrm>
            <a:off x="1828800" y="16765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1:33Z</dcterms:modified>
  <cp:revision>98</cp:revision>
  <dc:subject/>
  <dc:title>Ancient Greece</dc:title>
</cp:coreProperties>
</file>